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7CD-01C5-4E1F-B341-F6940864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199-6806-4A9F-8D2E-21F6C5A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2EB-8F7A-4DD4-8840-7D44F52A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944-87C0-491C-B9FF-7FD3134E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2492-06E7-42C5-BE93-B8F4DB02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0006-3322-4AFC-9054-3062699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198-7E88-4A15-B56F-6D6B5D1D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90C7-1B70-49FC-8CEF-59B2BF4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29E1-ACF3-4AF1-9BE5-E28459F6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7558-D38E-42AF-9A17-B18598D2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9EC-9B34-4E66-9DD4-8AFB21C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9B1-5945-4213-B737-AC4B160E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4E76-6180-43C7-8CEB-536005C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C45B-ECA2-48F3-93B1-683AFB8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C09-8626-49C7-B65D-6808A6C9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051B-4A04-411E-9F29-830BC324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4C0B-A058-48C8-990F-E7FCCF55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FB1-D0F0-4924-86EE-06156B4D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223-DA48-46D4-9F58-9108F37B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0AF-9A93-4856-A757-B1DF830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F34-CBE4-4FD0-827B-EC736133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851-E595-4DC2-9FC7-65859A3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C72-0E83-4FF9-B04D-A9A9EA34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497-506C-4273-A778-4431299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15E-1B29-4078-8A53-FC3D7436CF2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123-5A86-4650-BCA5-59559FE1E22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45FE-990D-4562-9159-1A03498DA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黑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687-8880-400B-AE5A-5825A4C051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宋体"/>
              </a:rPr>
              <a:t>Lesson31 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宋体"/>
              </a:rPr>
              <a:t>What Strange Weather.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8560" y="3601800"/>
            <a:ext cx="78868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808080"/>
              </a:solidFill>
              <a:latin typeface="Franklin Gothic Mediu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19040" y="764640"/>
            <a:ext cx="8291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Then the sun came out and it became warm. 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随后太阳出来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天变暖和了。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2" name="图片 5" descr="u=2068725179,4013458897&amp;fm=21&amp;gp=0[1]"/>
          <p:cNvPicPr/>
          <p:nvPr/>
        </p:nvPicPr>
        <p:blipFill>
          <a:blip r:embed="rId1"/>
          <a:stretch/>
        </p:blipFill>
        <p:spPr>
          <a:xfrm>
            <a:off x="5427720" y="3092400"/>
            <a:ext cx="3451320" cy="33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440" y="729720"/>
            <a:ext cx="8693280" cy="576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（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2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）后跟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_____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（形容词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/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名词）时常用来表示身份、职位、关系的变化，此时意为“成为”。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He became a teacher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10 years ago.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10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年前他成了一名老师。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4176360" y="549360"/>
            <a:ext cx="1116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名词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196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【学以致用】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080" y="1293840"/>
            <a:ext cx="898056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Franklin Gothic Medium"/>
              </a:rPr>
              <a:t>成为中学生之后，她变得外向了。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She 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Franklin Gothic Medium"/>
              </a:rPr>
              <a:t>                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r>
              <a:rPr b="1" lang="en-US" sz="4800" spc="-1" strike="noStrike">
                <a:solidFill>
                  <a:srgbClr val="002060"/>
                </a:solidFill>
                <a:latin typeface="Franklin Gothic Medium"/>
              </a:rPr>
              <a:t>outgoing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  after she 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Franklin Gothic Medium"/>
              </a:rPr>
              <a:t>                 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 a middle school student.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765080" y="1773360"/>
            <a:ext cx="2833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bec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"/>
          <p:cNvSpPr/>
          <p:nvPr/>
        </p:nvSpPr>
        <p:spPr>
          <a:xfrm>
            <a:off x="1621440" y="2565360"/>
            <a:ext cx="2833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bec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标注 3"/>
          <p:cNvSpPr/>
          <p:nvPr/>
        </p:nvSpPr>
        <p:spPr>
          <a:xfrm>
            <a:off x="237960" y="4343400"/>
            <a:ext cx="8579160" cy="1940040"/>
          </a:xfrm>
          <a:prstGeom prst="wedgeRoundRectCallout">
            <a:avLst>
              <a:gd name="adj1" fmla="val 2773"/>
              <a:gd name="adj2" fmla="val -86967"/>
              <a:gd name="adj3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前者表示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变得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，后者表示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成为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77840" y="803160"/>
            <a:ext cx="8778960" cy="57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3.surprised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惊奇的，修饰人；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surprising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令人惊奇的， 修饰物。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046520" y="3286080"/>
            <a:ext cx="716688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I'm surprised a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the surprising new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72880" y="644400"/>
            <a:ext cx="8609040" cy="59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4.What strange weather!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 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多么奇怪的天气！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此句是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what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引导的感叹句。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图片 1" descr="u=3704172272,3555908150&amp;fm=21&amp;gp=0[1]"/>
          <p:cNvPicPr/>
          <p:nvPr/>
        </p:nvPicPr>
        <p:blipFill>
          <a:blip r:embed="rId1"/>
          <a:stretch/>
        </p:blipFill>
        <p:spPr>
          <a:xfrm>
            <a:off x="1116000" y="3502080"/>
            <a:ext cx="7097760" cy="27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440" y="684000"/>
            <a:ext cx="886320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a.What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修饰名词 或名词短语，有以下两种形式：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黑体"/>
              </a:rPr>
              <a:t>what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+a/an +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形容词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单数可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数名词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主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谓！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What a lovely girl 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  <a:ea typeface="黑体"/>
              </a:rPr>
              <a:t>she is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! 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椭圆形标注 1"/>
          <p:cNvSpPr/>
          <p:nvPr/>
        </p:nvSpPr>
        <p:spPr>
          <a:xfrm>
            <a:off x="755640" y="5157720"/>
            <a:ext cx="8185320" cy="1170000"/>
          </a:xfrm>
          <a:prstGeom prst="wedgeEllipseCallout">
            <a:avLst>
              <a:gd name="adj1" fmla="val 29712"/>
              <a:gd name="adj2" fmla="val -107458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she is </a:t>
            </a:r>
            <a:r>
              <a:rPr b="1" lang="zh-CN" sz="4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可以省掉。  </a:t>
            </a:r>
            <a:r>
              <a:rPr b="0" lang="zh-CN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640" y="802800"/>
            <a:ext cx="905364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what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形容词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可数名词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复数或不可数名词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主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谓！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What kind girls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  <a:ea typeface="黑体"/>
              </a:rPr>
              <a:t> they are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!  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7" name="图片 2" descr="u=163729163,1511884439&amp;fm=21&amp;gp=0[1]"/>
          <p:cNvPicPr/>
          <p:nvPr/>
        </p:nvPicPr>
        <p:blipFill>
          <a:blip r:embed="rId1"/>
          <a:stretch/>
        </p:blipFill>
        <p:spPr>
          <a:xfrm>
            <a:off x="1279440" y="3740040"/>
            <a:ext cx="6902640" cy="24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719280"/>
            <a:ext cx="867096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b.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How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形容词或副词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主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谓！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How 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  <a:ea typeface="黑体"/>
              </a:rPr>
              <a:t>beautiful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she is!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How 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  <a:ea typeface="黑体"/>
              </a:rPr>
              <a:t>quickly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she runs!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椭圆形标注 1"/>
          <p:cNvSpPr/>
          <p:nvPr/>
        </p:nvSpPr>
        <p:spPr>
          <a:xfrm>
            <a:off x="2222640" y="3502080"/>
            <a:ext cx="4498920" cy="950760"/>
          </a:xfrm>
          <a:prstGeom prst="wedgeEllipseCallout">
            <a:avLst>
              <a:gd name="adj1" fmla="val -34837"/>
              <a:gd name="adj2" fmla="val -65754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形容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形标注 2"/>
          <p:cNvSpPr/>
          <p:nvPr/>
        </p:nvSpPr>
        <p:spPr>
          <a:xfrm>
            <a:off x="2340000" y="5302080"/>
            <a:ext cx="4253040" cy="1260720"/>
          </a:xfrm>
          <a:prstGeom prst="wedgeEllipseCallout">
            <a:avLst>
              <a:gd name="adj1" fmla="val -34902"/>
              <a:gd name="adj2" fmla="val -63351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副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17360" y="657000"/>
            <a:ext cx="88567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5.have to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与其他情态动词一样，后接动词原形，表示客观上的需要，强调被迫性，有“不得不”的意思，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have to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可根据不同的时态要求用于不同的时态。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圆角矩形标注 1"/>
          <p:cNvSpPr/>
          <p:nvPr/>
        </p:nvSpPr>
        <p:spPr>
          <a:xfrm>
            <a:off x="406440" y="5067360"/>
            <a:ext cx="8461440" cy="1355760"/>
          </a:xfrm>
          <a:prstGeom prst="wedgeRoundRectCallout">
            <a:avLst>
              <a:gd name="adj1" fmla="val -22990"/>
              <a:gd name="adj2" fmla="val -105782"/>
              <a:gd name="adj3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have to/has to/had to /will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2680" y="803160"/>
            <a:ext cx="868068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云形标注 1"/>
          <p:cNvSpPr/>
          <p:nvPr/>
        </p:nvSpPr>
        <p:spPr>
          <a:xfrm>
            <a:off x="339840" y="635040"/>
            <a:ext cx="8470800" cy="2687760"/>
          </a:xfrm>
          <a:prstGeom prst="cloudCallout">
            <a:avLst>
              <a:gd name="adj1" fmla="val 10287"/>
              <a:gd name="adj2" fmla="val 67041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It's too late ,I have  to go home no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" descr="office6\wpsassist\cache\A000220150322B26PPIC"/>
          <p:cNvPicPr/>
          <p:nvPr/>
        </p:nvPicPr>
        <p:blipFill>
          <a:blip r:embed="rId1"/>
          <a:stretch/>
        </p:blipFill>
        <p:spPr>
          <a:xfrm>
            <a:off x="2556000" y="3909960"/>
            <a:ext cx="4120920" cy="268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915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Franklin Gothic Medium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9040" y="1573200"/>
            <a:ext cx="85838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1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能正确提问并描述天气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2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能够恰当的描述不同季节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3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本课的重点词汇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86" name="图片 1" descr="u=435708719,3770243401&amp;fm=21&amp;gp=0[1]"/>
          <p:cNvPicPr/>
          <p:nvPr/>
        </p:nvPicPr>
        <p:blipFill>
          <a:blip r:embed="rId1"/>
          <a:stretch/>
        </p:blipFill>
        <p:spPr>
          <a:xfrm>
            <a:off x="1979640" y="4365720"/>
            <a:ext cx="5538600" cy="19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03040" y="682560"/>
            <a:ext cx="8693280" cy="59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6.become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为系动词表示，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"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变得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......"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后加形容词，构成系表结构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表示某人或某物所处的状态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The weather becomes </a:t>
            </a:r>
            <a:r>
              <a:rPr b="1" lang="en-US" sz="5400" spc="-1" strike="noStrike" u="sng">
                <a:solidFill>
                  <a:srgbClr val="002060"/>
                </a:solidFill>
                <a:uFillTx/>
                <a:latin typeface="Arial"/>
                <a:ea typeface="黑体"/>
              </a:rPr>
              <a:t>warm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椭圆形标注 1"/>
          <p:cNvSpPr/>
          <p:nvPr/>
        </p:nvSpPr>
        <p:spPr>
          <a:xfrm>
            <a:off x="3205080" y="4799160"/>
            <a:ext cx="4935600" cy="1728720"/>
          </a:xfrm>
          <a:prstGeom prst="wedgeEllipseCallout">
            <a:avLst>
              <a:gd name="adj1" fmla="val -66245"/>
              <a:gd name="adj2" fmla="val -18675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形容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作表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0240" y="695160"/>
            <a:ext cx="89218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Turn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系动词 也可以表示</a:t>
            </a:r>
            <a:r>
              <a:rPr b="1" lang="en-US" sz="6000" spc="-1" strike="noStrike">
                <a:solidFill>
                  <a:srgbClr val="002060"/>
                </a:solidFill>
                <a:latin typeface="Arial"/>
                <a:ea typeface="黑体"/>
              </a:rPr>
              <a:t>“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变得</a:t>
            </a:r>
            <a:r>
              <a:rPr b="1" lang="en-US" sz="6000" spc="-1" strike="noStrike">
                <a:solidFill>
                  <a:srgbClr val="002060"/>
                </a:solidFill>
                <a:latin typeface="Arial"/>
                <a:ea typeface="黑体"/>
              </a:rPr>
              <a:t>”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的意思。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9" name="图片 1" descr="u=1260434256,2273336370&amp;fm=21&amp;gp=0[1]"/>
          <p:cNvPicPr/>
          <p:nvPr/>
        </p:nvPicPr>
        <p:blipFill>
          <a:blip r:embed="rId1"/>
          <a:stretch/>
        </p:blipFill>
        <p:spPr>
          <a:xfrm>
            <a:off x="4356000" y="3933720"/>
            <a:ext cx="3095640" cy="2378160"/>
          </a:xfrm>
          <a:prstGeom prst="rect">
            <a:avLst/>
          </a:prstGeom>
          <a:ln w="0">
            <a:noFill/>
          </a:ln>
        </p:spPr>
      </p:pic>
      <p:sp>
        <p:nvSpPr>
          <p:cNvPr id="140" name="椭圆形标注 2"/>
          <p:cNvSpPr/>
          <p:nvPr/>
        </p:nvSpPr>
        <p:spPr>
          <a:xfrm>
            <a:off x="628560" y="2494080"/>
            <a:ext cx="8231400" cy="1403280"/>
          </a:xfrm>
          <a:prstGeom prst="wedgeEllipseCallout">
            <a:avLst>
              <a:gd name="adj1" fmla="val -38912"/>
              <a:gd name="adj2" fmla="val 7202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His face turned r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" descr="office6\wpsassist\cache\A000220150318T07PPIC"/>
          <p:cNvPicPr/>
          <p:nvPr/>
        </p:nvPicPr>
        <p:blipFill>
          <a:blip r:embed="rId2"/>
          <a:stretch/>
        </p:blipFill>
        <p:spPr>
          <a:xfrm>
            <a:off x="179280" y="3789360"/>
            <a:ext cx="3048120" cy="257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74320" y="684360"/>
            <a:ext cx="879012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7.go away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走了，离开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Before I go away ,I will call you.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黑体"/>
              </a:rPr>
              <a:t>在我走之前，我会给你打电话的。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3" name="图片 1" descr="office6\wpsassist\cache\A000220150322C89PPIC"/>
          <p:cNvPicPr/>
          <p:nvPr/>
        </p:nvPicPr>
        <p:blipFill>
          <a:blip r:embed="rId1"/>
          <a:stretch/>
        </p:blipFill>
        <p:spPr>
          <a:xfrm>
            <a:off x="2987640" y="4221000"/>
            <a:ext cx="2846520" cy="219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196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当堂检测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5240" y="1353600"/>
            <a:ext cx="880416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ts val="7200"/>
              </a:lnSpc>
              <a:spcBef>
                <a:spcPts val="20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用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What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或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How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填空：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ts val="7200"/>
              </a:lnSpc>
              <a:spcBef>
                <a:spcPts val="20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1.______ a big tree it is! 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ts val="7200"/>
              </a:lnSpc>
              <a:spcBef>
                <a:spcPts val="20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2.______ big the tree is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ts val="7200"/>
              </a:lnSpc>
              <a:spcBef>
                <a:spcPts val="20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文本框 1"/>
          <p:cNvSpPr/>
          <p:nvPr/>
        </p:nvSpPr>
        <p:spPr>
          <a:xfrm>
            <a:off x="1764720" y="2133720"/>
            <a:ext cx="2098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Wh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1835280" y="3141720"/>
            <a:ext cx="17794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H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" descr="u=1433758811,807292351&amp;fm=21&amp;gp=0[1]"/>
          <p:cNvPicPr/>
          <p:nvPr/>
        </p:nvPicPr>
        <p:blipFill>
          <a:blip r:embed="rId1"/>
          <a:stretch/>
        </p:blipFill>
        <p:spPr>
          <a:xfrm>
            <a:off x="1979640" y="4365720"/>
            <a:ext cx="450036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01600" y="684360"/>
            <a:ext cx="8742240" cy="59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3.______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a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beautiful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picture it is 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4.______ beautiful the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pictures are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5.______ high the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building is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1404000" y="404640"/>
            <a:ext cx="214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Wh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1476000" y="2133720"/>
            <a:ext cx="194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How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1548720" y="4076640"/>
            <a:ext cx="18694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Ho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4" descr="u=2694292216,2170428341&amp;fm=21&amp;gp=0[1]"/>
          <p:cNvPicPr/>
          <p:nvPr/>
        </p:nvPicPr>
        <p:blipFill>
          <a:blip r:embed="rId1"/>
          <a:stretch/>
        </p:blipFill>
        <p:spPr>
          <a:xfrm>
            <a:off x="6588000" y="3789360"/>
            <a:ext cx="2036880" cy="259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196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单项选择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6320" y="1558440"/>
            <a:ext cx="876636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Franklin Gothic Medium"/>
              </a:rPr>
              <a:t>(    )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1. ____ hard work it is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A. How       B. What 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C. What a   D. What an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解析： 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468360" y="1413000"/>
            <a:ext cx="9669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"/>
          <p:cNvSpPr/>
          <p:nvPr/>
        </p:nvSpPr>
        <p:spPr>
          <a:xfrm>
            <a:off x="4285440" y="4076640"/>
            <a:ext cx="27410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  <a:ea typeface="微软雅黑"/>
              </a:rPr>
              <a:t>work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  <a:ea typeface="微软雅黑"/>
              </a:rPr>
              <a:t>为不可数名词。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080" y="888840"/>
            <a:ext cx="898236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（   ）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2. ____ day it is!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It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’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s rainy again.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A. How bad  B. What a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fine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C. How fine  D. What a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黑体"/>
              </a:rPr>
              <a:t>bad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解析：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756360" y="765000"/>
            <a:ext cx="890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微软雅黑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"/>
          <p:cNvSpPr/>
          <p:nvPr/>
        </p:nvSpPr>
        <p:spPr>
          <a:xfrm>
            <a:off x="1835280" y="4365720"/>
            <a:ext cx="6600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微软雅黑"/>
              </a:rPr>
              <a:t>day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微软雅黑"/>
              </a:rPr>
              <a:t>是单数名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微软雅黑"/>
              </a:rPr>
              <a:t>且下雨是坏天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000" y="812880"/>
            <a:ext cx="86313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（   ）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3. 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Franklin Gothic Medium"/>
              </a:rPr>
              <a:t>       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beautiful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   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flowers they are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A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How      B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C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How a   D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What a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解析：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828000" y="620640"/>
            <a:ext cx="826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4368600" y="4365720"/>
            <a:ext cx="2681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微软雅黑"/>
              </a:rPr>
              <a:t>flowers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微软雅黑"/>
              </a:rPr>
              <a:t>是名词的复数形式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54080" y="812880"/>
            <a:ext cx="87897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Franklin Gothic Medium"/>
              </a:rPr>
              <a:t>（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    ）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4. </a:t>
            </a:r>
            <a:r>
              <a:rPr b="1" lang="zh-CN" sz="6000" spc="-1" strike="noStrike" u="sng">
                <a:solidFill>
                  <a:srgbClr val="002060"/>
                </a:solidFill>
                <a:uFillTx/>
                <a:latin typeface="Franklin Gothic Medium"/>
              </a:rPr>
              <a:t>           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 terrible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            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weather it is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A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What   B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What a   C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How     D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、</a:t>
            </a: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How a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Franklin Gothic Medium"/>
              </a:rPr>
              <a:t>解析：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1032480" y="692280"/>
            <a:ext cx="1107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4259880" y="4653000"/>
            <a:ext cx="3062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  <a:ea typeface="微软雅黑"/>
              </a:rPr>
              <a:t>weather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微软雅黑"/>
              </a:rPr>
              <a:t>是不可数名词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5360" y="766800"/>
            <a:ext cx="871848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Franklin Gothic Medium"/>
              </a:rPr>
              <a:t>(    )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5. Open the window,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and the bad smell will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_______.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A.go out          B. go off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C. go down     D. go away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解析：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540360" y="765000"/>
            <a:ext cx="890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微软雅黑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4227480" y="5157720"/>
            <a:ext cx="29480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微软雅黑"/>
              </a:rPr>
              <a:t>go away 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微软雅黑"/>
              </a:rPr>
              <a:t>表示气味消失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196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教学重难点：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9120" y="1330200"/>
            <a:ext cx="88027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1.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正确表达天气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2.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对于不同季节的描述 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89" name="图片 1" descr="u=3551595378,4074942968&amp;fm=21&amp;gp=0[1]"/>
          <p:cNvPicPr/>
          <p:nvPr/>
        </p:nvPicPr>
        <p:blipFill>
          <a:blip r:embed="rId1"/>
          <a:stretch/>
        </p:blipFill>
        <p:spPr>
          <a:xfrm>
            <a:off x="684360" y="3789360"/>
            <a:ext cx="7650000" cy="22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196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Medium"/>
              </a:rPr>
              <a:t>完成句子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5680" y="1400040"/>
            <a:ext cx="882828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1.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多么奇怪的天气呀！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______ ______ weather!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334520" y="1917720"/>
            <a:ext cx="518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微软雅黑"/>
              </a:rPr>
              <a:t>What    strang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2" descr="u=1693604200,3800182037&amp;fm=116&amp;gp=0[1]"/>
          <p:cNvPicPr/>
          <p:nvPr/>
        </p:nvPicPr>
        <p:blipFill>
          <a:blip r:embed="rId1"/>
          <a:stretch/>
        </p:blipFill>
        <p:spPr>
          <a:xfrm>
            <a:off x="250920" y="3732120"/>
            <a:ext cx="2095560" cy="24656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" descr="u=2884996210,554416003&amp;fm=21&amp;gp=0[1]"/>
          <p:cNvPicPr/>
          <p:nvPr/>
        </p:nvPicPr>
        <p:blipFill>
          <a:blip r:embed="rId2"/>
          <a:stretch/>
        </p:blipFill>
        <p:spPr>
          <a:xfrm>
            <a:off x="4500720" y="3860640"/>
            <a:ext cx="2163600" cy="237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4" descr="u=1472156209,1890038458&amp;fm=21&amp;gp=0[1]"/>
          <p:cNvPicPr/>
          <p:nvPr/>
        </p:nvPicPr>
        <p:blipFill>
          <a:blip r:embed="rId3"/>
          <a:stretch/>
        </p:blipFill>
        <p:spPr>
          <a:xfrm>
            <a:off x="2340000" y="3789360"/>
            <a:ext cx="2120760" cy="24177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u=2838438171,670765780&amp;fm=21&amp;gp=0[1]"/>
          <p:cNvPicPr/>
          <p:nvPr/>
        </p:nvPicPr>
        <p:blipFill>
          <a:blip r:embed="rId4"/>
          <a:stretch/>
        </p:blipFill>
        <p:spPr>
          <a:xfrm>
            <a:off x="6661080" y="3860640"/>
            <a:ext cx="2136960" cy="239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4920" y="620280"/>
            <a:ext cx="837900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2.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好一个下雪天！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______ ______ 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  <a:ea typeface="黑体"/>
              </a:rPr>
              <a:t>______ day! 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文本框 1"/>
          <p:cNvSpPr/>
          <p:nvPr/>
        </p:nvSpPr>
        <p:spPr>
          <a:xfrm>
            <a:off x="1547640" y="1413000"/>
            <a:ext cx="39128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What       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"/>
          <p:cNvSpPr/>
          <p:nvPr/>
        </p:nvSpPr>
        <p:spPr>
          <a:xfrm>
            <a:off x="1404720" y="2349360"/>
            <a:ext cx="26053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now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u=199781715,1652448597&amp;fm=21&amp;gp=0[1]"/>
          <p:cNvPicPr/>
          <p:nvPr/>
        </p:nvPicPr>
        <p:blipFill>
          <a:blip r:embed="rId1"/>
          <a:stretch/>
        </p:blipFill>
        <p:spPr>
          <a:xfrm>
            <a:off x="1262160" y="3755880"/>
            <a:ext cx="7169040" cy="24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36520" y="790560"/>
            <a:ext cx="8694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3.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我们几乎是要在一天中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经历四个不同季节了！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We are    ______ 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______four different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Franklin Gothic Medium"/>
              </a:rPr>
              <a:t>seasons in one day!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3565080" y="2276640"/>
            <a:ext cx="48016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experienc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"/>
          <p:cNvSpPr/>
          <p:nvPr/>
        </p:nvSpPr>
        <p:spPr>
          <a:xfrm>
            <a:off x="1045080" y="3213000"/>
            <a:ext cx="26816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alm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22200" y="910800"/>
            <a:ext cx="85852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4.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秋季是我最喜欢的季节。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Autumn is my ______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______ .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5725080" y="1557360"/>
            <a:ext cx="33674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favour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260360" y="2421000"/>
            <a:ext cx="28339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ea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3" descr="u=4237922777,3607902938&amp;fm=21&amp;gp=0[1]"/>
          <p:cNvPicPr/>
          <p:nvPr/>
        </p:nvPicPr>
        <p:blipFill>
          <a:blip r:embed="rId1"/>
          <a:stretch/>
        </p:blipFill>
        <p:spPr>
          <a:xfrm>
            <a:off x="179280" y="3849840"/>
            <a:ext cx="4256280" cy="24508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" descr="u=4294587735,96134147&amp;fm=21&amp;gp=0[1]"/>
          <p:cNvPicPr/>
          <p:nvPr/>
        </p:nvPicPr>
        <p:blipFill>
          <a:blip r:embed="rId2"/>
          <a:stretch/>
        </p:blipFill>
        <p:spPr>
          <a:xfrm>
            <a:off x="4645080" y="3906720"/>
            <a:ext cx="4078080" cy="24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9040" y="477360"/>
            <a:ext cx="829152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90" name="图片 1" descr="u=824510593,807311625&amp;fm=15&amp;gp=0[1]"/>
          <p:cNvPicPr/>
          <p:nvPr/>
        </p:nvPicPr>
        <p:blipFill>
          <a:blip r:embed="rId1"/>
          <a:stretch/>
        </p:blipFill>
        <p:spPr>
          <a:xfrm>
            <a:off x="279360" y="768240"/>
            <a:ext cx="8688600" cy="5540400"/>
          </a:xfrm>
          <a:prstGeom prst="rect">
            <a:avLst/>
          </a:prstGeom>
          <a:ln w="0">
            <a:noFill/>
          </a:ln>
        </p:spPr>
      </p:pic>
      <p:pic>
        <p:nvPicPr>
          <p:cNvPr id="191" name="矩形 2" descr=""/>
          <p:cNvPicPr/>
          <p:nvPr/>
        </p:nvPicPr>
        <p:blipFill>
          <a:blip r:embed="rId2"/>
          <a:stretch/>
        </p:blipFill>
        <p:spPr>
          <a:xfrm>
            <a:off x="2025720" y="2351160"/>
            <a:ext cx="5729040" cy="19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67752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短语连线</a:t>
            </a:r>
            <a:r>
              <a:rPr b="0" lang="zh-CN" sz="3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9000" y="1209240"/>
            <a:ext cx="8742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1. wake up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   A.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滑雪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2. go away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   B.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做得好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3. go skiing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   C.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打雪仗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4. good work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D.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醒来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5. have snowball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fights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	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                E.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消失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92" name="直接箭头连接符 1"/>
          <p:cNvCxnSpPr/>
          <p:nvPr/>
        </p:nvCxnSpPr>
        <p:spPr>
          <a:xfrm>
            <a:off x="3765240" y="1744560"/>
            <a:ext cx="2175480" cy="21168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3" name="直接箭头连接符 2"/>
          <p:cNvCxnSpPr/>
          <p:nvPr/>
        </p:nvCxnSpPr>
        <p:spPr>
          <a:xfrm>
            <a:off x="3619080" y="2513160"/>
            <a:ext cx="2537640" cy="2932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4" name="直接箭头连接符 3"/>
          <p:cNvCxnSpPr/>
          <p:nvPr/>
        </p:nvCxnSpPr>
        <p:spPr>
          <a:xfrm flipV="1">
            <a:off x="3924360" y="1917000"/>
            <a:ext cx="2232720" cy="14389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5" name="直接箭头连接符 4"/>
          <p:cNvCxnSpPr/>
          <p:nvPr/>
        </p:nvCxnSpPr>
        <p:spPr>
          <a:xfrm flipV="1">
            <a:off x="4254480" y="2491560"/>
            <a:ext cx="1758240" cy="14979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6" name="直接箭头连接符 5"/>
          <p:cNvCxnSpPr/>
          <p:nvPr/>
        </p:nvCxnSpPr>
        <p:spPr>
          <a:xfrm flipV="1">
            <a:off x="2862000" y="3285720"/>
            <a:ext cx="3223080" cy="23392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196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知识精讲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680" y="1317240"/>
            <a:ext cx="880452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1. wake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的用法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(1)wake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用作不及物动词意为“醒；醒来”，常用于短语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wake up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◆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I woke up this morning and I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黑体"/>
              </a:rPr>
              <a:t>was surprised!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黑体"/>
              </a:rPr>
              <a:t>我今天早上醒来大吃一惊！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03040" y="693360"/>
            <a:ext cx="873000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(2)wake …up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把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..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叫醒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例如：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Please wake</a:t>
            </a:r>
            <a:r>
              <a:rPr b="1" lang="zh-CN" sz="4800" spc="-1" strike="noStrike" u="sng">
                <a:solidFill>
                  <a:srgbClr val="002060"/>
                </a:solidFill>
                <a:uFillTx/>
                <a:latin typeface="Arial"/>
                <a:ea typeface="黑体"/>
              </a:rPr>
              <a:t> me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up at 8:00 o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  <a:ea typeface="黑体"/>
              </a:rPr>
              <a:t>’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clock.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  <a:ea typeface="黑体"/>
              </a:rPr>
              <a:t>请在八点钟叫醒我。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圆角矩形标注 1"/>
          <p:cNvSpPr/>
          <p:nvPr/>
        </p:nvSpPr>
        <p:spPr>
          <a:xfrm>
            <a:off x="1620720" y="3736800"/>
            <a:ext cx="6910560" cy="851040"/>
          </a:xfrm>
          <a:prstGeom prst="wedgeRoundRectCallout">
            <a:avLst>
              <a:gd name="adj1" fmla="val -8106"/>
              <a:gd name="adj2" fmla="val -129643"/>
              <a:gd name="adj3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代词做宾语，必须放在中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0920" y="885960"/>
            <a:ext cx="875664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  <a:ea typeface="黑体"/>
              </a:rPr>
              <a:t>My mother wakes me up at 6: 00 every morning.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云形标注 1"/>
          <p:cNvSpPr/>
          <p:nvPr/>
        </p:nvSpPr>
        <p:spPr>
          <a:xfrm>
            <a:off x="2987640" y="2492280"/>
            <a:ext cx="5978520" cy="2282760"/>
          </a:xfrm>
          <a:prstGeom prst="cloudCallout">
            <a:avLst>
              <a:gd name="adj1" fmla="val -50444"/>
              <a:gd name="adj2" fmla="val 58763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我母亲每天早上六点钟把我叫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u=1213673002,1140402981&amp;fm=21&amp;gp=0[1]"/>
          <p:cNvPicPr/>
          <p:nvPr/>
        </p:nvPicPr>
        <p:blipFill>
          <a:blip r:embed="rId1"/>
          <a:stretch/>
        </p:blipFill>
        <p:spPr>
          <a:xfrm>
            <a:off x="250920" y="4221000"/>
            <a:ext cx="251460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66320" y="693360"/>
            <a:ext cx="877716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黑体"/>
              </a:rPr>
              <a:t>完成句子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如果明天我六点醒，我将把你叫醒。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If I ______ ______ at 6: 00 tomorrow, I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  <a:ea typeface="黑体"/>
              </a:rPr>
              <a:t>’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黑体"/>
              </a:rPr>
              <a:t>ll ______ ______ ______. 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1620000" y="2637000"/>
            <a:ext cx="32270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wake  u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"/>
          <p:cNvSpPr/>
          <p:nvPr/>
        </p:nvSpPr>
        <p:spPr>
          <a:xfrm>
            <a:off x="4500720" y="3357720"/>
            <a:ext cx="4150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wake    you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7"/>
          <p:cNvSpPr/>
          <p:nvPr/>
        </p:nvSpPr>
        <p:spPr>
          <a:xfrm>
            <a:off x="900000" y="4005360"/>
            <a:ext cx="128124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u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8" descr="u=4220730815,3538322954&amp;fm=21&amp;gp=0[1]"/>
          <p:cNvPicPr/>
          <p:nvPr/>
        </p:nvPicPr>
        <p:blipFill>
          <a:blip r:embed="rId1"/>
          <a:stretch/>
        </p:blipFill>
        <p:spPr>
          <a:xfrm>
            <a:off x="2989440" y="4768920"/>
            <a:ext cx="5751360" cy="18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8640" y="930240"/>
            <a:ext cx="87678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2. become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的用法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become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常用作系动词，后跟形容词或名词。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（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1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）后跟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_______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（形容词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/</a:t>
            </a:r>
            <a:r>
              <a:rPr b="1" lang="zh-CN" sz="4800" spc="-1" strike="noStrike">
                <a:solidFill>
                  <a:srgbClr val="002060"/>
                </a:solidFill>
                <a:latin typeface="Franklin Gothic Medium"/>
              </a:rPr>
              <a:t>名词）时表示人或物的状态、外貌的变化，此时意为“变（得）”。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3731400" y="3068640"/>
            <a:ext cx="1232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形容词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02:17:40Z</dcterms:created>
  <dc:creator>lenovo</dc:creator>
  <dc:description/>
  <dc:language>en-US</dc:language>
  <cp:lastModifiedBy>Administrator</cp:lastModifiedBy>
  <dcterms:modified xsi:type="dcterms:W3CDTF">2019-01-02T01:18:49Z</dcterms:modified>
  <cp:revision>3</cp:revision>
  <dc:subject/>
  <dc:title>Lesson31 What Strange Weath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